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858-9E56-4082-B31F-CB5DB6D8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C9E-4957-4198-99EB-66D7E3FD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330-07F1-42D3-8119-9E3CEF59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9CE-26D4-4032-B44F-1EA5E2A6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4F6-3EC2-4236-AC0D-B3027CBC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913-B6A7-432A-9AC3-642AA639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53D-AD51-4CF2-ADB9-ACD0361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EA2-7A48-48BF-A034-49D03FFC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B4F-FFD8-45B1-898F-5BAB24E4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C1D-7864-4B40-A8A4-4EED2FB2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00C-C3C3-4535-8D80-B96556A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204-C4C4-4033-8138-53CE1E9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72C-7514-4C7C-A81E-3818DAE5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2 Kapite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Geles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Langstreckenlauf Jeden Tag fur mein Gesundheit. Es macht sp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icht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 es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 mich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162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esse viel Obst und Ge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jeden Tag weil Obst und Ge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gesund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13440" cy="244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8880" y="28954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in Amerika, ist ein Pizza ein Gem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2767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ugend von 9 uhr zu 9 uhr weil mein bett ist zer bequem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 wish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4257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u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 du trinkst Alkohol, weil es sehr ungesund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225520" cy="319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3048120"/>
            <a:ext cx="3505320" cy="3504960"/>
          </a:xfrm>
          <a:prstGeom prst="noSmoking">
            <a:avLst>
              <a:gd name="adj" fmla="val 56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u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 gut das du nicht raucht, denn du bist ges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1280" y="4038480"/>
            <a:ext cx="2210040" cy="2210040"/>
          </a:xfrm>
          <a:prstGeom prst="noSmoking">
            <a:avLst>
              <a:gd name="adj" fmla="val 7041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darfe 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e mein Freunde besu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895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darfe ich nic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e nicht sterben, weil ich bin ehrfurchtig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ich bin ges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7:07Z</dcterms:created>
  <dc:creator>CUSD220</dc:creator>
  <dc:description/>
  <dc:language>en-US</dc:language>
  <cp:lastModifiedBy>CUSD220</cp:lastModifiedBy>
  <dcterms:modified xsi:type="dcterms:W3CDTF">2012-02-24T17:40:19Z</dcterms:modified>
  <cp:revision>3</cp:revision>
  <dc:subject/>
  <dc:title>Deutsch 2 Kapitel 4 Project</dc:title>
</cp:coreProperties>
</file>